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27B-EA55-4D9B-B384-CF350D93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AE6-822B-497B-B6FE-C653F10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BA6-CAC2-4740-B14C-FF4FC3B5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513-0268-4287-BCA5-4765E89E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E2F-1C69-4E6B-B40A-A3D6F0F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87D-EB7C-433A-9AF9-116FCB5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14A-EC1B-4810-9FC9-5C462571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238-90E4-4FCD-B449-2D677279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26B-300D-43DB-83FA-0D0D755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E8A-793D-4223-8D61-265AB02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6CD-2104-4310-AB09-CB4DABD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1C8-FD1F-4932-AD63-B5289FF8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5B4-3D05-41BC-9318-E36E9BA4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4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When Sha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us recall a not-so-distant time when sharing knowledge with other employees was not encourag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mployees learned in spite of the culture, not becaus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havior behind this culture is called “knowledge hoar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7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Ho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a big part of the culture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ly driven by classification, compartmentation, and need-to-know concerns, but also by the personnel evaluation systems of the 70s and 80s that rewarded unique skills and knowledge i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644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Knowled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arding So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expertise/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died or retired with their subject matter experts (S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arget expertise, based on the SME’s individual background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hiring was limited at the time, it was difficult to train new employees or military transfe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644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Are We Chang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ily, we are slowly changing our corporate cultures an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till LOTS of room for improv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80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or The Bet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recruitment and use of Adjunct Faculty for in-house training and cours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camp training programs for new h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-sharing features on the Intranet (blogs, wikis, Google Searc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924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609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 Am Just One Per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, but you have stuck with me so far, so you are a person who cares what happens after you retire or lea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s who retire are being formally debriefed to collect information that is of use or interest in building a corporat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orking-level individuals, we can also share some of the knowledge and skills that we’ve acquired during our care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33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art of this workshop,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ome personal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m for Key Words and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hem on our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652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remember a time when you wished you could pose a mission-related problem to the general organization and see if anyone else had ideas or ins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n’t you do this?  What would have been the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with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p a brief history of this episode and save it as a Word file on your network dr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162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300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1:47:12Z</dcterms:created>
  <dc:creator>Anne Brooker-Grogan</dc:creator>
  <dc:description/>
  <dc:language>en-US</dc:language>
  <cp:lastModifiedBy>Anne Brooker-Grogan</cp:lastModifiedBy>
  <dcterms:modified xsi:type="dcterms:W3CDTF">2010-02-15T08:31:23Z</dcterms:modified>
  <cp:revision>5</cp:revision>
  <dc:subject/>
  <dc:title>Corporate Knowledge Management</dc:title>
</cp:coreProperties>
</file>